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AC16-4A81-4221-8E7B-E320445F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873-A066-4210-80BF-AD8B3BE6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F4EA-7A15-4DDE-B94E-9EB45335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E0F-368D-491C-A74A-C9150E0C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6C24-17FE-458E-A9AE-6A5FA8C5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F45D-9140-488A-A331-449B58F7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65C3-E00A-4857-B3F2-2611AB6B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9D0E-7DE6-4265-8009-EF392F89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4FD4-CC00-42C5-A54D-3F1B744C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8169-9E7F-4F63-A2F6-C2AC89E6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A422-3FDC-4165-B1F9-16CB6127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17D2-FD5A-42C3-A21F-EC7EF44B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76E2-29FE-4E4C-A462-8BF8E7AC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C59D-EB78-4AE3-99BA-BB250E44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F8E4-E647-45CA-B2C6-A9CBD17C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ACDC-E328-4345-BEAE-48750F6E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653B-5054-4CEB-96F5-FE534714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A8546-A39D-4E34-A62E-609E8E01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CBD7E9-EE33-46BC-B942-B871439E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871E6-03C0-4D4F-867D-B4DFA564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59C8DE-4A7A-4868-B46A-3E2CDC51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2EB54A-9675-47EC-9399-442CDA6A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97A7-FEC9-4A42-84F1-1EB47EFB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0F1079-F2A5-498F-9B0F-337C9AAA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F73A0-41FD-42DD-B496-8BBDCB40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5A10E8-3CC0-45EE-B274-95482476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E4D432-AB23-471D-8E98-2266D18A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878EA1-F904-4D54-A929-93718100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84D900-AECC-4543-8ADE-6936E8E2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F7661D-95C8-42CB-BBCF-FACC6271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00D59-85C4-4798-AC07-7BAD7B95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EB4F5-6BEE-466F-BBDE-82DCFA5C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DB0A0-9D64-4C3B-BAC7-D476A9C0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F2E9-1327-4F0A-AC85-ED3BE698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5C44B-90B0-44C1-A232-447E8723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717B0-A98C-43A2-BB21-C7CE5068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BA417-F8FF-40D5-B26D-4AE470BA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3D9A6-11D4-4CDC-9627-357480D6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5C9ED-D36C-422F-AB38-2F9AC1C3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E9C04-680B-46D8-8C78-A7DA0D2B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A9813-CD55-4BC0-B4E0-576687B0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D075B-CEDB-4E3B-8A77-E399C819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FB013-171E-4FDB-8CF7-0F43E61A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39B9-E989-4FA1-89AE-3E74799E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5231-1E09-4328-8EC8-525BA3EC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5B9F-243C-4DE6-BA19-377CE29D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1F0A-CAC3-4809-9E4B-8E8856F5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B68C-4FCD-4345-9373-C23BCBE5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8BB0-AFA1-4072-8E00-1B8FAB85B74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2B73-13EA-4D5D-B26F-D91C87E1A8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B18A-CF32-4263-A1DA-31BB7BBCCE51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2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33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34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35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36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37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3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8A33-D43D-40A4-9F9C-0820F0CA48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SAFETY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AIRBAGS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IN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CA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7929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ONSTRUCTION OF AIR BAGS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rbag are assemblies consisting of the airbag (made of Nylon), inflator modules and sensor housing, electrical connectors (Clock spring), airbag retainer and the cove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lator assembl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module activates airbag assembly- electric current is sent to the detonator-ignition of sodium azide pallets-evolves nitrogen g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or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 bags are designed to inflate in frontal impacts in which the car strikes about 16 km/h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collision senors sents an electric current to ignito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 current heats the filament which ignates the capsule which in turn ignites the gas generating pall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gas expands quickly and inflation of air bags there by takesplace,which break through a plastic cover in the  steering whe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aken for all these things about .1se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RIVERS SIDE AIRBA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6" name="Picture 4" descr="airbag1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66680" y="2590920"/>
            <a:ext cx="6477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247176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208" name="Picture 2" descr="airbag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66680" y="1981080"/>
            <a:ext cx="4200480" cy="2695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5"/>
          <p:cNvSpPr/>
          <p:nvPr/>
        </p:nvSpPr>
        <p:spPr>
          <a:xfrm>
            <a:off x="30002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210" name="Picture 4" descr="airbag7"/>
          <p:cNvPicPr/>
          <p:nvPr/>
        </p:nvPicPr>
        <p:blipFill>
          <a:blip r:embed="rId2">
            <a:grayscl/>
          </a:blip>
          <a:stretch/>
        </p:blipFill>
        <p:spPr>
          <a:xfrm>
            <a:off x="5638680" y="1981080"/>
            <a:ext cx="3143520" cy="2571840"/>
          </a:xfrm>
          <a:prstGeom prst="rect">
            <a:avLst/>
          </a:prstGeom>
          <a:ln w="0">
            <a:noFill/>
          </a:ln>
        </p:spPr>
      </p:pic>
      <p:pic>
        <p:nvPicPr>
          <p:cNvPr id="211" name="WordArt 6" descr=""/>
          <p:cNvPicPr/>
          <p:nvPr/>
        </p:nvPicPr>
        <p:blipFill>
          <a:blip r:embed="rId3"/>
          <a:stretch/>
        </p:blipFill>
        <p:spPr>
          <a:xfrm>
            <a:off x="5857920" y="4559400"/>
            <a:ext cx="2468520" cy="341280"/>
          </a:xfrm>
          <a:prstGeom prst="rect">
            <a:avLst/>
          </a:prstGeom>
          <a:ln w="0">
            <a:noFill/>
          </a:ln>
        </p:spPr>
      </p:pic>
      <p:pic>
        <p:nvPicPr>
          <p:cNvPr id="212" name="WordArt 7" descr=""/>
          <p:cNvPicPr/>
          <p:nvPr/>
        </p:nvPicPr>
        <p:blipFill>
          <a:blip r:embed="rId4"/>
          <a:stretch/>
        </p:blipFill>
        <p:spPr>
          <a:xfrm>
            <a:off x="1968480" y="4559400"/>
            <a:ext cx="220680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rn types airba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2017800"/>
            <a:ext cx="80773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Curtain airbag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ed by mercedes and vol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late infront of windows to provide passengers better head and neck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efficient at tipping and side impa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HIC by 8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61048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Head throax bag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veloped by ford and renaul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igh protection to hea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veloped by BMW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orlds first airbag for head prot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airba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Smart system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ludes weight senso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e type occupant in seat.ie.child or adul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Infrared occupan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ct the distance of passenger from airba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Capacitive reflective occupant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sens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distance passenger from dash 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riminate between human occupant and inanimat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Update senso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loys seatbelt pretensioners faster to get benefit of airb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entralised electronic control uni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sensor technology through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                 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CONT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1   INTRODU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2   BASIS OF AIR BAG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3   DEVELOPMENTS OF AIR BAG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4   CONSTRUCTION OF AIR BAG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5   WORK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6   MODERN TYP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7   FUTUR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8   AIR BAG DEPLOY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9   AIR BAG CHEC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10 DISARMING AIR BAG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11 CONCLU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r bag deploy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rbag inf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icits contact with airba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ing to rest in seat and deflation of airba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these take in 30 millisec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rbags chec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turn key look at the dash to find airbag light for 7-10 sec.&amp;then go 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s occur wh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light does not come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if light does not go off after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if light comes during dri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arming airba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onnect batt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it 30se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ve airbag f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op sound insulator pa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onnect the circu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us the bag is disarm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the bag below 130degree cels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airbag"/>
          <p:cNvPicPr/>
          <p:nvPr/>
        </p:nvPicPr>
        <p:blipFill>
          <a:blip r:embed="rId1"/>
          <a:stretch/>
        </p:blipFill>
        <p:spPr>
          <a:xfrm>
            <a:off x="1752480" y="2666880"/>
            <a:ext cx="1809720" cy="1428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airbag1"/>
          <p:cNvPicPr/>
          <p:nvPr/>
        </p:nvPicPr>
        <p:blipFill>
          <a:blip r:embed="rId2"/>
          <a:stretch/>
        </p:blipFill>
        <p:spPr>
          <a:xfrm>
            <a:off x="4191120" y="2666880"/>
            <a:ext cx="1809720" cy="1428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airbag2"/>
          <p:cNvPicPr/>
          <p:nvPr/>
        </p:nvPicPr>
        <p:blipFill>
          <a:blip r:embed="rId3"/>
          <a:stretch/>
        </p:blipFill>
        <p:spPr>
          <a:xfrm>
            <a:off x="6553080" y="2514600"/>
            <a:ext cx="1809720" cy="14288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airbag3"/>
          <p:cNvPicPr/>
          <p:nvPr/>
        </p:nvPicPr>
        <p:blipFill>
          <a:blip r:embed="rId4"/>
          <a:stretch/>
        </p:blipFill>
        <p:spPr>
          <a:xfrm>
            <a:off x="1676520" y="4343400"/>
            <a:ext cx="1809720" cy="1428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airbag4"/>
          <p:cNvPicPr/>
          <p:nvPr/>
        </p:nvPicPr>
        <p:blipFill>
          <a:blip r:embed="rId5"/>
          <a:stretch/>
        </p:blipFill>
        <p:spPr>
          <a:xfrm>
            <a:off x="4191120" y="4419720"/>
            <a:ext cx="18097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rear_restraint"/>
          <p:cNvPicPr/>
          <p:nvPr/>
        </p:nvPicPr>
        <p:blipFill>
          <a:blip r:embed="rId1"/>
          <a:stretch/>
        </p:blipFill>
        <p:spPr>
          <a:xfrm>
            <a:off x="990720" y="3429000"/>
            <a:ext cx="754380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r bags are of greater importance in todays vehicles siince safety of human life is of prior import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far safe riding  and for saving  the precious life the safety bags must be implemente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’s hope every automobile manufacturer implements the s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WordArt 2" descr=""/>
          <p:cNvPicPr/>
          <p:nvPr/>
        </p:nvPicPr>
        <p:blipFill>
          <a:blip r:embed="rId1"/>
          <a:stretch/>
        </p:blipFill>
        <p:spPr>
          <a:xfrm>
            <a:off x="-1322280" y="2498760"/>
            <a:ext cx="114840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til recently seat belts provided the sole form of passive restraint in ca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ly talks arose about their safe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bags have been under development for many yea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s reveal that airbags reduce the risk of casualty in a DFC by 3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bags are the subject of serious governments industry research and tes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ton’s second law of mo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objects aren’t restrained they will continue moving at the speed of the moving car even if the car is stopped by a colli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airbags need to do is to slow down passengers spe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WordArt 5" descr=""/>
          <p:cNvPicPr/>
          <p:nvPr/>
        </p:nvPicPr>
        <p:blipFill>
          <a:blip r:embed="rId1"/>
          <a:stretch/>
        </p:blipFill>
        <p:spPr>
          <a:xfrm>
            <a:off x="444600" y="596880"/>
            <a:ext cx="729144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LD WAR-2 :saw the first patent on an inflatable crash landing device for airpla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80:first commercial airbags appeared in automobi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 since 1988 it became a bind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orts to adapt the airbag was stranded due to prohibitive prices and technical hurd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N PARTS OF AN AIRBA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lation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BA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made up of a thin nylon fabric, which is folded into the steering wheel or dashboard or the seat or do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powdery substance released ( regular cornstarch or talcum powder) is used to keep the bags lubricated while they’re in stor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ENS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9296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evice that tells the bag to inflat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works with the control module to                      discriminate between crash and non- crash events.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NFLATION SYSTEM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large amts. of NITROGEN G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t Blasts of the nitrogen inflate the air bag from its storage site up to 322Kmp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08:32:07Z</dcterms:created>
  <dc:creator>Mechanical Engineering Project</dc:creator>
  <dc:description/>
  <dc:language>en-US</dc:language>
  <cp:lastModifiedBy>Brigade</cp:lastModifiedBy>
  <dcterms:modified xsi:type="dcterms:W3CDTF">2011-08-09T11:09:22Z</dcterms:modified>
  <cp:revision>0</cp:revision>
  <dc:subject/>
  <dc:title>Mechanical Engineering Project</dc:title>
</cp:coreProperties>
</file>